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F7B9-17A2-4F0B-8349-0746A8937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6D89-E331-44B9-9FD3-DB1AE19E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2534-C37E-4E18-A386-A7E8F6F63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20D8-C718-4E0A-8C66-28020DA6A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86CC-8FCE-496B-A5AF-C65F720C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EE45-FA2F-4FD3-BD52-49323997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790B-E610-4F1F-ACEF-1E150653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06BD-C05D-43BB-957E-F257103E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5AEB-9F96-46FB-8A21-9F46E12D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47B7-599C-43E9-B1DB-337DE938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E8CE-E1BA-4CFF-B627-7AFC9C8F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B601-030D-4071-BCAA-222EFE91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5E33-7B07-468A-AB41-26C93DF8C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06440" y="1625760"/>
            <a:ext cx="925020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ce5cd"/>
                </a:solidFill>
                <a:latin typeface="Arial"/>
              </a:rPr>
              <a:t>Почему планеты имеют форму шара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ce5cd"/>
                </a:solidFill>
                <a:latin typeface="Arial"/>
              </a:rPr>
              <a:t>Попробуйте ответить на вопросы: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ce5cd"/>
                </a:solidFill>
                <a:latin typeface="Arial"/>
              </a:rPr>
              <a:t>1. Как получаются тела вращения?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ce5cd"/>
                </a:solidFill>
                <a:latin typeface="Arial"/>
              </a:rPr>
              <a:t>2. Как изображают объемные тела?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ce5cd"/>
                </a:solidFill>
                <a:latin typeface="Arial"/>
              </a:rPr>
              <a:t>3. В чем магия шара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ce5cd"/>
                </a:solidFill>
                <a:latin typeface="Arial"/>
              </a:rPr>
              <a:t>4. </a:t>
            </a:r>
            <a:r>
              <a:rPr b="0" lang="ru-RU" sz="3500" spc="-1" strike="noStrike">
                <a:solidFill>
                  <a:srgbClr val="fce5cd"/>
                </a:solidFill>
                <a:latin typeface="Arial"/>
              </a:rPr>
              <a:t>Магия тел вращения?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52600" y="1743120"/>
            <a:ext cx="9055080" cy="23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eeee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eeeee"/>
                </a:solidFill>
                <a:latin typeface="Arial"/>
              </a:rPr>
              <a:t>Что такое тела вращения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eeee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eeeee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eeeeee"/>
                </a:solidFill>
                <a:latin typeface="Arial"/>
              </a:rPr>
              <a:t>Какие тела вращения вы знаете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eeee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eeeee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eeeeee"/>
                </a:solidFill>
                <a:latin typeface="Arial"/>
              </a:rPr>
              <a:t>Где мы можем их увидеть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eeee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eeeee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eeeeee"/>
                </a:solidFill>
                <a:latin typeface="Arial"/>
              </a:rPr>
              <a:t>Как используются тела вращения в искусстве</a:t>
            </a:r>
            <a:r>
              <a:rPr b="0" lang="ru-RU" sz="2700" spc="-1" strike="noStrike">
                <a:solidFill>
                  <a:srgbClr val="eeeeee"/>
                </a:solidFill>
                <a:latin typeface="Arial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eeee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eeeee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eeeeee"/>
                </a:solidFill>
                <a:latin typeface="Arial"/>
              </a:rPr>
              <a:t>Как посчитать на объемы тел вращения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eeee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eeeee"/>
                </a:solidFill>
                <a:latin typeface="Arial"/>
              </a:rPr>
              <a:t>Количество образов основных тел вращения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74680" y="20520"/>
            <a:ext cx="96105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52600" y="1743120"/>
            <a:ext cx="905508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Тела вращен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74680" y="20520"/>
            <a:ext cx="94201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58880" y="1865160"/>
            <a:ext cx="4713480" cy="771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08320" y="2154240"/>
            <a:ext cx="3774960" cy="289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ек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222960" y="2676600"/>
            <a:ext cx="1757520" cy="1716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168640" y="2803680"/>
            <a:ext cx="1441440" cy="1589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180120" y="4433760"/>
            <a:ext cx="2328840" cy="435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242040" y="4502160"/>
            <a:ext cx="2200320" cy="289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акт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2009880" y="4898880"/>
            <a:ext cx="509400" cy="100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7164360" y="4898880"/>
            <a:ext cx="593640" cy="1008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8"/>
          <a:stretch/>
        </p:blipFill>
        <p:spPr>
          <a:xfrm>
            <a:off x="1428840" y="6264360"/>
            <a:ext cx="1990800" cy="425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9"/>
          <a:stretch/>
        </p:blipFill>
        <p:spPr>
          <a:xfrm>
            <a:off x="1550880" y="4386240"/>
            <a:ext cx="1992600" cy="412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50880" y="4457880"/>
            <a:ext cx="1943280" cy="289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следовате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07960" y="6330960"/>
            <a:ext cx="1895760" cy="289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езент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6664320" y="5897520"/>
            <a:ext cx="1992240" cy="412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735600" y="5897520"/>
            <a:ext cx="1895760" cy="289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укл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52600" y="3394800"/>
            <a:ext cx="90550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457200" indent="-342720" algn="ctr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Обзор учебников и энцилопедий;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ctr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Поиск информации и создание каталога полезных ресурсов;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ctr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Создать презентацию;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5960" y="59040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Группа исследователей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52600" y="1743120"/>
            <a:ext cx="90550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Создание 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буклета 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«Тела вращения в искусстве»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или «Тела вращения.  Объемы тел вращения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Нарисовать картину из тел вращения, используя компьютерные технологии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77400" y="496800"/>
            <a:ext cx="384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Группа практиков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Arial"/>
              </a:rPr>
              <a:t>Оценивание: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1760" y="1362240"/>
            <a:ext cx="9667800" cy="57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eeee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Arial"/>
              </a:rPr>
              <a:t>Должны быть получены ответы на поставленные задач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eeee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eeee"/>
                </a:solidFill>
                <a:latin typeface="Arial"/>
              </a:rPr>
              <a:t>буклет</a:t>
            </a:r>
            <a:r>
              <a:rPr b="0" lang="en-US" sz="2800" spc="-1" strike="noStrike">
                <a:solidFill>
                  <a:srgbClr val="eeeeee"/>
                </a:solidFill>
                <a:latin typeface="Arial"/>
              </a:rPr>
              <a:t> д</a:t>
            </a:r>
            <a:r>
              <a:rPr b="0" lang="ru-RU" sz="2800" spc="-1" strike="noStrike">
                <a:solidFill>
                  <a:srgbClr val="eeeeee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eeeeee"/>
                </a:solidFill>
                <a:latin typeface="Arial"/>
              </a:rPr>
              <a:t>л</a:t>
            </a:r>
            <a:r>
              <a:rPr b="0" lang="ru-RU" sz="2800" spc="-1" strike="noStrike">
                <a:solidFill>
                  <a:srgbClr val="eeeeee"/>
                </a:solidFill>
                <a:latin typeface="Arial"/>
              </a:rPr>
              <a:t>же</a:t>
            </a:r>
            <a:r>
              <a:rPr b="0" lang="en-US" sz="2800" spc="-1" strike="noStrike">
                <a:solidFill>
                  <a:srgbClr val="eeeeee"/>
                </a:solidFill>
                <a:latin typeface="Arial"/>
              </a:rPr>
              <a:t>н в полной мере отражать свойства тел вращения. Должны содержаться все необходимые формулы для вычисления всех параметров данного тела вращения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eeee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Arial"/>
              </a:rPr>
              <a:t>Правильно оформлен библиографический список и</a:t>
            </a:r>
            <a:r>
              <a:rPr b="0" lang="ru-RU" sz="2800" spc="-1" strike="noStrike">
                <a:solidFill>
                  <a:srgbClr val="eeeeee"/>
                </a:solidFill>
                <a:latin typeface="Arial"/>
              </a:rPr>
              <a:t> список</a:t>
            </a:r>
            <a:r>
              <a:rPr b="0" lang="en-US" sz="2800" spc="-1" strike="noStrike">
                <a:solidFill>
                  <a:srgbClr val="eeeeee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eeeee"/>
                </a:solidFill>
                <a:latin typeface="Arial"/>
              </a:rPr>
              <a:t>использованных </a:t>
            </a:r>
            <a:r>
              <a:rPr b="0" lang="en-US" sz="2800" spc="-1" strike="noStrike">
                <a:solidFill>
                  <a:srgbClr val="eeeeee"/>
                </a:solidFill>
                <a:latin typeface="Arial"/>
              </a:rPr>
              <a:t>ресурсов Интернет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eeee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Arial"/>
              </a:rPr>
              <a:t>В </a:t>
            </a:r>
            <a:r>
              <a:rPr b="0" lang="ru-RU" sz="2800" spc="-1" strike="noStrike">
                <a:solidFill>
                  <a:srgbClr val="eeeeee"/>
                </a:solidFill>
                <a:latin typeface="Arial"/>
              </a:rPr>
              <a:t>презентации</a:t>
            </a:r>
            <a:r>
              <a:rPr b="0" lang="en-US" sz="2800" spc="-1" strike="noStrike">
                <a:solidFill>
                  <a:srgbClr val="eeeeee"/>
                </a:solidFill>
                <a:latin typeface="Arial"/>
              </a:rPr>
              <a:t> должно содержаться достаточное количество иллюстраци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eeee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Arial"/>
              </a:rPr>
              <a:t>Презентация должна в полной мере отражать ход исследования и достигнутые цел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eeee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Arial"/>
              </a:rPr>
              <a:t>Оформление презентации должно быть удобным для восприя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Admin</cp:lastModifiedBy>
  <dcterms:modified xsi:type="dcterms:W3CDTF">2010-05-24T05:16:26Z</dcterms:modified>
  <cp:revision>6</cp:revision>
  <dc:subject/>
  <dc:title>PowerPoint Presentation</dc:title>
</cp:coreProperties>
</file>